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2B19-4669-46A5-AC6F-EFB6CEEE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1C6C-D7D7-42AD-B89C-15606557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F7C-ECA6-4559-A00C-7C71EEC4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FE4-83FB-4D88-9D23-364B3FE3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8D41-E916-419E-B258-B74CEFAA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6C0F-EF42-4813-8353-ADB6C000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31DE-C1FC-4637-8BED-ECCFDA9C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252D-CDB7-4ED2-ACA3-F7F8266A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EA2A-8C6B-47AE-AE3E-83A79181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9CB0-5A24-4B6C-836E-A9D89A91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0DB5-7AE0-4A80-8BBF-D0EEEA0E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87F-D419-4C73-85AF-3E67B700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411D-55C5-45B0-B4AF-96DD5112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7F81-1717-47DC-AD3E-5C50D10E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4263-2F54-454F-82AE-2EA4B5D4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20A4-0962-4DE0-9A4B-7C6C5D68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7B2D-128F-433A-8F43-85D48DC4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DC22-F22E-4272-92FB-3CDFD6F8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D3AA-07D5-4016-83E9-89335032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9E7C-3E5E-40D1-A603-8B3C3435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D51-91E1-4895-AA3F-7E5E5B24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69A-2827-4019-A57D-66A47A4C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FCD-63A2-463C-A471-66DCD26E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782-DB3E-4A1B-A029-78F4955B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26C1-253A-45D8-A454-F048F8289B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860F-B556-4C18-AD2E-7E064E8F1F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strategicplanningsuccess.com/images/newsletter_pics/Values-1.jpg&amp;imgrefurl=http://picsdigger.com/keyword/values%2520and%2520beliefs/&amp;usg=__QIeIIgt6fMoPcSKR_VNEDXoqJzw=&amp;h=540&amp;w=720&amp;sz=31&amp;hl=en&amp;start=7&amp;zoom=1&amp;um=1&amp;itbs=1&amp;tbnid=E2qXy-fxNj5UbM:&amp;tbnh=105&amp;tbnw=140&amp;prev=/images%3Fq%3Dvalues%2Band%2Bbeliefs%26um%3D1%26hl%3Den%26gbv%3D2%26tbs%3Disch:1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google.co.uk/imgres?imgurl=http://www.3c.org/images/beliefs-title.jpg&amp;imgrefurl=http://www.3c.org/beliefs.html&amp;usg=__Xq35e8rYqScnJriKc5uHLX6YyXE=&amp;h=226&amp;w=234&amp;sz=34&amp;hl=en&amp;start=49&amp;zoom=1&amp;um=1&amp;itbs=1&amp;tbnid=k_SOqMFDWWWEeM:&amp;tbnh=105&amp;tbnw=109&amp;prev=/images%3Fq%3Dbeliefs%26start%3D40%26um%3D1%26hl%3Den%26sa%3DN%26gbv%3D2%26ndsp%3D20%26tbs%3Disch:1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google.co.uk/imgres?imgurl=http://media.merchantcircle.com/25926240/Newest%2520Attitudes%2520Apparel%2520Logo_full.jpeg&amp;imgrefurl=http://www.merchantcircle.com/blogs/Attitudes.Apparel.904-790-1117/2008/7/Baby-Special-15-Off-All-Babies-and-Kids-Products-/93377&amp;usg=__tq-YLBW_ABHRunydzj0j_t39MNU=&amp;h=434&amp;w=1024&amp;sz=62&amp;hl=en&amp;start=43&amp;zoom=1&amp;um=1&amp;itbs=1&amp;tbnid=EacDN0eKT3obYM:&amp;tbnh=64&amp;tbnw=150&amp;prev=/images%3Fq%3Dattitudes%26start%3D40%26um%3D1%26hl%3Den%26sa%3DN%26gbv%3D2%26ndsp%3D20%26tbs%3Disch:1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thebosh.com/upload/2008/04/01/kristen_bell_cosmopolitan_magazine_may_2008/Kristen%2520Bell%2520Cosmopolitan%2520Magazine%2520May%25202008.jpg&amp;imgrefurl=http://thebosh.com/archives/2008/04/kristen_bell_cosmopolitan_magazine_may_2008.php&amp;usg=__Q0ByU-wlgJZtmtZas8K36kX8HDg=&amp;h=672&amp;w=500&amp;sz=85&amp;hl=en&amp;start=2&amp;zoom=1&amp;itbs=1&amp;tbnid=CiSancEypZj1EM:&amp;tbnh=138&amp;tbnw=103&amp;prev=/images%3Fq%3Dcosmopolitan%2Bmagazine%26hl%3Den%26gbv%3D2%26tbs%3Disch:1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google.co.uk/imgres?imgurl=http://www.magxone.com/uploads/2009/05/lauren-conrad-cosmopolitan-magazine-july-1.jpg&amp;imgrefurl=http://www.magxone.com/cosmopolitan/lauren-conrad-cosmopolitan-magazine-july-2009/&amp;usg=__OGngu9GxFXxVmch08bZ-rOGHBKA=&amp;h=600&amp;w=443&amp;sz=64&amp;hl=en&amp;start=7&amp;zoom=1&amp;itbs=1&amp;tbnid=iymDHUzERWEAkM:&amp;tbnh=135&amp;tbnw=100&amp;prev=/images%3Fq%3Dcosmopolitan%2Bmagazine%26hl%3Den%26gbv%3D2%26tbs%3Disch:1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google.co.uk/imgres?imgurl=http://www.superficialdiva.com/wp-content/uploads/2008/07/scarlett-johansson-cosmopolitan-magazine-august-2008.jpg&amp;imgrefurl=http://www.superficialdiva.com/2008/0707/scarlett-johansson-cosmopolitan-magazine-august-2008/&amp;usg=__roZa8feRcDCA4eUIRq3MM6lfzBE=&amp;h=640&amp;w=470&amp;sz=91&amp;hl=en&amp;start=11&amp;zoom=1&amp;itbs=1&amp;tbnid=-uhw2qeHAxQvoM:&amp;tbnh=137&amp;tbnw=101&amp;prev=/images%3Fq%3Dcosmopolitan%2Bmagazine%26hl%3Den%26gbv%3D2%26tbs%3Disch:1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jessicaalbasource.com/wp-content/uploads/2009/01/jessica-alba-cosmopolitan-feb09.jpg&amp;imgrefurl=http://www.jessicaalbasource.com/jessica-in-cosmopolitan-february-2009/&amp;usg=__6H5UBA5wpTfFwcqRzp142Ey3JBQ=&amp;h=640&amp;w=486&amp;sz=93&amp;hl=en&amp;start=3&amp;zoom=1&amp;um=1&amp;itbs=1&amp;tbnid=rIQrxxVhjTceFM:&amp;tbnh=137&amp;tbnw=104&amp;prev=/images%3Fq%3Dcosmopolitan%26um%3D1%26hl%3Den%26tbs%3Disch: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co.uk/imgres?imgurl=http://ep.yimg.com/ca/I/solissf_2126_1351942991&amp;imgrefurl=http://store.soliscompany.com/nasodaadba.html&amp;usg=__ZrN2yLp-Je92sDggfNXUGwjQx2Y=&amp;h=318&amp;w=450&amp;sz=19&amp;hl=en&amp;start=14&amp;zoom=1&amp;um=1&amp;itbs=1&amp;tbnid=DdHNaKZvkoH1VM:&amp;tbnh=90&amp;tbnw=127&amp;prev=/images%3Fq%3Dperfume%2Badvert%26um%3D1%26hl%3Den%26tbs%3Disch:1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google.co.uk/imgres?imgurl=http://www.beyondhollywood.com/gallery/wp-content/uploads/2007/10/hollyoaks-2008-calendar-amazon.jpg&amp;imgrefurl=http://www.beyondhollywood.com/gallery/hollyoaks-girls-2008-calendar/&amp;usg=__fyleu2cZPYisA9HX8AJPANLDWYQ=&amp;h=500&amp;w=346&amp;sz=40&amp;hl=en&amp;start=6&amp;zoom=1&amp;um=1&amp;itbs=1&amp;tbnid=nkRL3r-yliv9AM:&amp;tbnh=130&amp;tbnw=90&amp;prev=/images%3Fq%3Dhollyoaks%2Bgirls%26um%3D1%26hl%3Den%26tbs%3Disch:1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google.co.uk/imgres?imgurl=http://www.alleba.com/blog/wp-content/photos/angelina_jolie.jpg&amp;imgrefurl=http://www.alleba.com/blog/2006/12/20/photoshop-tutorial-the-hedcut-effect/&amp;usg=__uJAtTWzHiCmWTgzvHxr_lstbyBs=&amp;h=395&amp;w=300&amp;sz=65&amp;hl=en&amp;start=7&amp;zoom=1&amp;um=1&amp;itbs=1&amp;tbnid=E0X6Q_dG203EDM:&amp;tbnh=124&amp;tbnw=94&amp;prev=/images%3Fq%3Dangelina%2Bjolie%26um%3D1%26hl%3Den%26tbs%3Disch:1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www.google.co.uk/imgres?imgurl=http://girlstalkinsmack.com/wp-content/uploads/2010/07/cheryl-cole6.jpg&amp;imgrefurl=http://girlstalkinsmack.com/cheryl-cole-struck-down-with-malaria-after-tanzania-trip/&amp;usg=__gLoRFQ43-E7OVDRZhZ9eMQIrem0=&amp;h=600&amp;w=477&amp;sz=370&amp;hl=en&amp;start=4&amp;zoom=1&amp;um=1&amp;itbs=1&amp;tbnid=aMjW8ZtMhXmhDM:&amp;tbnh=135&amp;tbnw=107&amp;prev=/images%3Fq%3Dcheryl%2Bcole%26um%3D1%26hl%3Den%26tbs%3Disch:1" TargetMode="External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goc.state.md.us/images/HappyFamily.jpg&amp;imgrefurl=http://www.goc.state.md.us/job_openings.html&amp;usg=__zDZCd3f6kN88gCknsLBOFZqVmJA=&amp;h=1024&amp;w=819&amp;sz=215&amp;hl=en&amp;start=26&amp;zoom=1&amp;itbs=1&amp;tbnid=j8XTaHZO1Wb-hM:&amp;tbnh=150&amp;tbnw=120&amp;prev=/images%3Fq%3Dfamily%26start%3D20%26hl%3Den%26sa%3DN%26gbv%3D2%26ndsp%3D20%26tbs%3Disch:1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google.co.uk/imgres?imgurl=http://mychicagoweddingbanquethalls.com/files/2009/12/bride-and-groom.jpg&amp;imgrefurl=http://picsdigger.com/keyword/wedding%2520bride%2520and%2520groom/&amp;usg=__Cz1DWHrTtWEGXPrJruzCqKMyQoQ=&amp;h=365&amp;w=550&amp;sz=194&amp;hl=en&amp;start=38&amp;zoom=1&amp;itbs=1&amp;tbnid=ufPT1YEA4JoKvM:&amp;tbnh=88&amp;tbnw=133&amp;prev=/images%3Fq%3Dbride%2Band%2Bgroom%26start%3D20%26hl%3Den%26sa%3DN%26gbv%3D2%26ndsp%3D20%26tbs%3Disch:1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www.google.co.uk/imgres?imgurl=http://i.telegraph.co.uk/telegraph/multimedia/archive/01505/Octomum_1505465c.jpg&amp;imgrefurl=http://www.telegraph.co.uk/news/newstopics/celebritynews/6376898/Filming-begins-on-documentary-of-Octomum-Nadya-Suleman.html&amp;usg=__SMoYmFIngXd_OJTDTCSYn2Au95g=&amp;h=288&amp;w=460&amp;sz=29&amp;hl=en&amp;start=9&amp;zoom=1&amp;itbs=1&amp;tbnid=Fh_7b9JThNq6-M:&amp;tbnh=80&amp;tbnw=128&amp;prev=/images%3Fq%3Dunemployed%2Bmother%2Band%2Bchildren%26hl%3Den%26gbv%3D2%26tbs%3Disch:1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hyperlink" Target="http://www.google.co.uk/imgres?imgurl=http://www.babble.com/CS/blogs/strollerderby/glamour.jpg&amp;imgrefurl=http://www.babble.com/CS/blogs/strollerderby/archive/tags/magazines/default.aspx&amp;usg=__T-IqOkfylrkFQ8VMzII_YewRlWQ=&amp;h=552&amp;w=400&amp;sz=161&amp;hl=en&amp;start=5&amp;zoom=1&amp;itbs=1&amp;tbnid=UTbl8U3SxN88yM:&amp;tbnh=133&amp;tbnw=96&amp;prev=/images%3Fq%3Dwomen%2527s%2Bmagazines%26hl%3Den%26gbv%3D2%26tbs%3Disch:1" TargetMode="External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Ideolo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764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Arial"/>
              </a:rPr>
              <a:t>AS Media Stud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6" descr="Values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40464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beliefs-titl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404640"/>
            <a:ext cx="1657440" cy="1597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Newest%2520Attitudes%2520Apparel%2520Logo_fu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08360" y="5589720"/>
            <a:ext cx="193212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Media messages and val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ose interests does the text serv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o is present in the tex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o is absent from the text – whose opinion is not taken into accou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o or what can the texts be said to repres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does the text tell us about who made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judgements do you make about the accuracy of the tex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judgements might other people or groups make about th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essages and values are offered about the social/political world in which we liv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conclusions can we draw from it, what issues does it rai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the messages and values in the text affect how you make decisions about the issu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Key questions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are the major values, ideologies and assumptions underpinning the text or naturalised within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criteria have been used for selecting the content presen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**Key term**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DEOLOG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– attitudes, beliefs and val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set of beliefs that people use to make sense of their experiences and views of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most obvious belief systems centre upon religious, political and economic concep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onstruction, selection and shaping of ideas that go into a media text can be seen to reflect the belief system of the producer of the 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deology refers t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ts of ideas which give some account of the social world, usually a partial and selective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relationship of these ideas or values to the ways in which it is distributed social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way in which such values and meanings are usually posed as natural and obvious, in other words working with or against sets of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Kristen%2520Bell%2520Cosmopolitan%2520Magazine%2520May%252020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068640"/>
            <a:ext cx="1995480" cy="2673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lauren-conrad-cosmopolitan-magazine-july-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3141720"/>
            <a:ext cx="1974960" cy="2665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scarlett-johansson-cosmopolitan-magazine-august-200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27640" y="3213000"/>
            <a:ext cx="2017800" cy="2737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"/>
          <p:cNvSpPr/>
          <p:nvPr/>
        </p:nvSpPr>
        <p:spPr>
          <a:xfrm>
            <a:off x="826920" y="83664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at is the dominant ideology we have in society about female beau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deology and Ge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jessica-alba-cosmopolitan-feb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413000"/>
            <a:ext cx="2135160" cy="2813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solissf_2126_135194299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653000"/>
            <a:ext cx="2692080" cy="190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hollyoaks-2008-calendar-amaz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11640" y="4076640"/>
            <a:ext cx="1676520" cy="2419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angelina_joli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20000" y="4292640"/>
            <a:ext cx="1692360" cy="223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cheryl-cole6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020000" y="1268280"/>
            <a:ext cx="1884240" cy="23767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5"/>
          <p:cNvSpPr/>
          <p:nvPr/>
        </p:nvSpPr>
        <p:spPr>
          <a:xfrm>
            <a:off x="3348000" y="1773360"/>
            <a:ext cx="309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ur perceptions of female beauty are dominated by young, white, flawless and slim wo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is the dominant ideology in our society about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7" descr="HappyFamil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557360"/>
            <a:ext cx="2130480" cy="26636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0"/>
          <p:cNvSpPr/>
          <p:nvPr/>
        </p:nvSpPr>
        <p:spPr>
          <a:xfrm>
            <a:off x="0" y="4724280"/>
            <a:ext cx="324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amily life is often depicted as a happy and desirable state, with married couples bringing up child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3635280" y="4797360"/>
            <a:ext cx="288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Going to work and using your earnings to support your family is ‘right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6840360" y="4829040"/>
            <a:ext cx="2303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as being unemployed and unable to support a family is ‘wrong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14" descr="bride-and-gro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2205000"/>
            <a:ext cx="2433600" cy="1609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6" descr="Octomum_1505465c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00720" y="2205000"/>
            <a:ext cx="25862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ig Br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media can be seen to shape our attitudes in order to accept what is best for the elite in pow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idea of ‘Big Brother’ has always had negative connotations in our socie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well – 198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w - Public acceptance of surveillance – something that could be considered against their interests. Influenced by the med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lice Camera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ideological ideas behind ‘big brother’ have changed – it is now associated with the most watched  and talked about reality TV sh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ideological function of many media texts is to identify for women how they should perform within a patriarch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irl’s magaz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deologically it is clear that happiness for a girl is to be found in the arms of a male part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output of television also suggests the importance of their domestic and child bearing ro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omen who are able to juggle a career as well are celebr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glamou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72280" y="0"/>
            <a:ext cx="1071720" cy="148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mumkidDM2103_468x327"/>
          <p:cNvPicPr/>
          <p:nvPr/>
        </p:nvPicPr>
        <p:blipFill>
          <a:blip r:embed="rId8"/>
          <a:stretch/>
        </p:blipFill>
        <p:spPr>
          <a:xfrm>
            <a:off x="0" y="0"/>
            <a:ext cx="17636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ok at two different representations of the same news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lete your worksheet – media messages and val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port ba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1:52:32Z</dcterms:created>
  <dc:creator>Grainne</dc:creator>
  <dc:description/>
  <dc:language>en-US</dc:language>
  <cp:lastModifiedBy>Grainne</cp:lastModifiedBy>
  <dcterms:modified xsi:type="dcterms:W3CDTF">2010-10-13T15:14:12Z</dcterms:modified>
  <cp:revision>23</cp:revision>
  <dc:subject/>
  <dc:title>Ideology</dc:title>
</cp:coreProperties>
</file>